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86A1-4B4E-4F4B-9827-418A0AD0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F938-840D-4854-A975-563938E1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870F-4C9D-4993-A659-44C7EE7C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0B2B-4CC6-4849-A659-1C0DB5BC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3624-B139-4BF1-9CD1-0ED5AB54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C6F4-8BB9-458A-AC37-4E61EC73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E9F2-6859-4A43-ABC6-AC9B3C06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3B27-7927-4132-BDCC-0DA0581E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255E-C73C-4329-BFFC-E68FD46E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0A31-3211-4A5B-BD5F-836D64CC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2720-F651-4412-B1A5-AACA8D02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7B25-7C15-4393-8374-49B9B2CC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5F76-0CE1-4B42-8676-0818CD98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914F-0C06-4ADD-9C39-0BBB1232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F154-041E-408C-9959-8FB44675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13C0-B6AF-4A4D-8A8B-F51D6A8F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47DE-7A87-4237-87F1-51E1B742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28915-B37B-4D87-A130-0AF71AE8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18A49-826B-458D-A013-C5676D69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73B9F-14F1-4C80-8621-D4AF0BC2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59C49-D53C-443A-B0BB-5E869345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5D663-D60A-4F0D-8A68-27478A11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E5DB-9453-4B1D-90D4-126762C6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0A54B-E216-4B02-9AA1-54E05990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C5C61-CBBA-43A6-9005-55754FC7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D329E-C695-47E5-B4B5-347BA2A1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6C600-91F3-460B-BF1D-66AA9158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62BE3-811E-4D7E-8A35-D3DAB306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F7A00-49C9-4B24-8283-365C3A08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76224-662D-402A-A075-8A8287B9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212FD-63D1-4EA7-BF8A-C53F2D67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19079-384D-4A06-B86F-4D3B8F20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A0E80-9FA9-4698-93C8-7C0891FE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CF5E-820F-4AD7-BC92-73B3EDFE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72139-1EA2-4F11-9242-37A9A822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15414-AEB7-4612-B9D7-7625C4E2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6D621-E646-486D-81D7-0EA75BBB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A36D9-9E7F-40D8-A065-AF2B629D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DABDC-B2CD-4443-AEFA-C3B72B0A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70ED9-3884-4231-B34C-E16EAB42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1C3AF-9B5A-45BD-8442-8DCCCDB5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C80B6-2DB5-42DF-B034-B59CE270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1E51A-BE64-4CE5-B4BB-160EF8D8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AAB32-4D2F-4837-B09E-5F0F2D2E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715A-7411-4CB3-B6FC-FDF9BB6A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1136D-EFF2-4DAF-9E81-B4C0ADD3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5F9BE-8597-4F7E-B701-277A39A6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AADD4-BEAA-42CA-8C60-417B0696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2DB1C-5ADE-47C2-BA35-843E2F47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86502-355C-4525-907E-58E6F075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5A5E2-7AB8-4F14-8A03-D7BD0D76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B5AB0-8832-44A5-BE60-F84E5870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A5778-31BA-49C0-B71B-AC91D112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85FF4-CADA-436C-A0FA-EF9E0585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2AF07-F03C-48A8-8849-E9560832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D47C-3CE2-4525-BB95-55C58E0B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692EC-0D7C-4154-BCB1-C2E25E44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44BAB-941D-4714-BBB0-58684C08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CE358-60BF-4950-8918-8892F8DF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5E1B6-8CF6-4D9A-A3A7-B5867AE4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6B6A7-B31E-40A9-B2D9-3775F113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A5AB9-FD56-4E2F-BA2F-C0BFADD3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27020-DF57-4651-BB4B-75D5313C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11A85-EAE5-4631-B8E6-EA33D616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BA229-D860-4588-AA4A-B6803913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878F5-5816-4E1A-8689-C0E6BF84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2055-417B-49B3-8955-60086CB1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2CE18-E07D-496D-AF5F-69979473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D4186-6041-4C3A-9D68-FEB83A38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44DC6-BCD6-4B18-B4E3-D8C9CD7E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D8C41-A13F-42FA-9664-6D395106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B3E8E-474B-4AF8-9D7D-568B3942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44FB6-64B0-4798-8C51-9CD6766A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C9B81-9AAF-4176-876D-2372EC15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247C9-83B5-4104-8530-62DC9601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46363-365B-44B8-8F54-4CED7FE8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A42ED-61F9-4FF8-8381-85F78E81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78E5-A9F9-4AAD-8859-8456DBEC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92762-6363-42CD-93C8-712A4FCD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71173-FB6A-4ABC-B8BE-E34C060F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A2F7E-B485-4F39-AB5E-67DD35F3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07E9A-6F54-46D4-8B6E-39CF002C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C1134-714A-48B3-B2CC-81137E19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2728E-C46D-433D-A6C3-F9C1C47B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6A376-67BA-470A-BE47-6D9DC0C1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B40CD-E35D-47A5-8A12-8861C939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8186F-95A1-4D57-93E8-542559E2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B7EBF-18DA-477F-B85F-1C9F9985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99CE-3F1F-422F-9FD7-95D41AB1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13ED5-E9D4-413E-B34D-8593AC51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075FF-F8AD-4A12-8FA6-ADAEE9AD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2383F-9D42-4C2F-8B54-E5D7564F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C30E8-621C-440A-A82C-27551AC2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35CAB-E274-4FD9-9B65-25EA6260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5F8AD-58FB-4D69-8E81-14608E90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A189A-B116-428A-B9A7-A43356A1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BD181-BBD9-4F7A-B041-5B4A61FFF0CF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1596AE-6CFD-4421-98CD-9DFAECD5541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E7569A-3928-4E2A-B1A0-AC7FA0E4B9AB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42A02-0D9F-4904-8FBA-17B012522B1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DE9EB4-8076-474E-BA54-AF595F572E64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5B4901-CDEF-424F-BAF2-FBC5BA278C6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C14F1-09A4-4BBE-9370-A75860C3F6F8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B3049-98C6-46E7-8D6D-188D6C3019D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81900-B152-4DF8-B4C0-52F571B83170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A5836-3FFB-4E0B-916D-1B87BD8B631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B0176-3DDA-4F57-B44C-AAC70C25B8D6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6A62F-1C6B-40D6-94AE-D9E4577A115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D02E2C-9403-48B8-BF65-A65054F3BBA5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B59B0A-1618-421E-9D5E-540D078DF65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9D7E3-FA10-4A49-99F6-6FDBBDD7BAFA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059A2-725F-409B-B67E-5395D94349F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0" y="1417680"/>
            <a:ext cx="868680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Ashley moves identical two boxes from the floor to the table.  Box A she lifts to the table.  Box B she slides up a ramp to the table.  Which box required less force to move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450720" y="2279520"/>
            <a:ext cx="82425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ticipatory S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o Now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nnouncements – broken copier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stimania incenti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ainpo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ainpop quiz -  Team practi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dependent Practi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stiman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os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682560" y="1542960"/>
            <a:ext cx="791856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Simple machines do NOT change the amount of work done on an object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Simple machines change the direction, distance, or force on an object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Force is often called effort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Lucida Sans Unicode"/>
              </a:rPr>
              <a:t>1.Does a simple machine change the amount of work done on an object?</a:t>
            </a:r>
            <a:endParaRPr b="0" lang="en-US" sz="5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Lucida Sans Unicode"/>
              </a:rPr>
              <a:t>2. What can a simple machine change?</a:t>
            </a:r>
            <a:endParaRPr b="0" lang="en-US" sz="5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205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An inclined plane decreases the force needed to move an object by increasing the distance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Wedges and screws are both types of inclined planes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4830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0" y="1417680"/>
            <a:ext cx="91440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Jane uses a ramp to move a box of books up to a shelf. 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1. Will she have to push the books a longer distance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2. Will she use more force to move the books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3. What other simple machines are inclined planes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000000"/>
                </a:solidFill>
                <a:uFillTx/>
                <a:latin typeface="Lucida Sans Unicode"/>
              </a:rPr>
              <a:t>A wheel and axle makes work easier because the wheel decreases the force needed to turn the axle by increasing the distance.</a:t>
            </a:r>
            <a:endParaRPr b="0" lang="en-US" sz="4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"/>
          <p:cNvPicPr/>
          <p:nvPr/>
        </p:nvPicPr>
        <p:blipFill>
          <a:blip r:embed="rId2"/>
          <a:srcRect l="0" t="0" r="0" b="18007"/>
          <a:stretch/>
        </p:blipFill>
        <p:spPr>
          <a:xfrm>
            <a:off x="6000840" y="-11160"/>
            <a:ext cx="28573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0" y="1046160"/>
            <a:ext cx="91440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Calvin is riding on a merry-go-round. 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Does the merry-go-round move a shorter distance than its axle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Does the merry-go-round require more force to turn than the axle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27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"/>
          <p:cNvPicPr/>
          <p:nvPr/>
        </p:nvPicPr>
        <p:blipFill>
          <a:blip r:embed="rId2"/>
          <a:stretch/>
        </p:blipFill>
        <p:spPr>
          <a:xfrm>
            <a:off x="6872400" y="5072040"/>
            <a:ext cx="2271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01:52:20Z</dcterms:created>
  <dc:creator>Caroline Roth</dc:creator>
  <dc:description/>
  <dc:language>en-US</dc:language>
  <cp:lastModifiedBy>Caroline Roth</cp:lastModifiedBy>
  <dcterms:modified xsi:type="dcterms:W3CDTF">2011-02-24T02:36:54Z</dcterms:modified>
  <cp:revision>4</cp:revision>
  <dc:subject/>
  <dc:title>Do Now</dc:title>
</cp:coreProperties>
</file>